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1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0122-2C74-4223-BA79-6B1CD6D64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oogle.co.nz/url?sa=t&amp;rct=j&amp;q=&amp;esrc=s&amp;source=web&amp;cd=1&amp;ved=0CCIQFjAA&amp;url=http://www.oecd.org/pisa/&amp;ei=8ZpVUJ-WHMiQiAfHi4HoCg&amp;usg=AFQjCNGYzzZTz6O4ays93DbcAqDtLGdxTQ"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F835-EE66-4EB6-8F5D-A67361D8F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70D5-1F62-4CE7-BFE1-720C54FCF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lues of your learning are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A900-8869-40A5-B417-B8D75AF5B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lues of your learning are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P</a:t>
            </a: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3B95-15FB-4766-B97A-EADCD553B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Organisation for Economic Co-operation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ISA survey tests reading, mathematical and scientific literacy in terms of general competencies, that is, how well students can apply the knowledge and skills they have learned at school to real-life challenges. PISA does not test how well a student has mastered a school’s specific curricul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ECD began work on PISA in the mid-1990s. PISA was officially launched in 1997, with the first survey taking place in 2000, the second in 2003, the third in 2006 and the fourth in 2009. Future surveys are planned in 2012, 2015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in each country are randomly selected by the international contractor for participation in PISA. At these schools, the test is given to students who are between age 15 years 3 months and age 16 years 2 months at the time of the test, rather than to students in a specific year of school. This average age of 15 was chosen because at this age young people in most OECD countries are nearing the end of compulsory education. The selection of schools and students is kept as inclusive as possible, so that the sample of students comes from a broad range of backgrounds and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13A7-AAEE-442B-942E-647B6DB65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Figure 3: Reading literacy proficiency levels (from p. 8 PISA 2009; Our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learners at age 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NZ</a:t>
            </a:r>
            <a:r>
              <a:rPr b="0" lang="ja-JP" sz="1200" spc="-1" strike="noStrike">
                <a:solidFill>
                  <a:srgbClr val="000000"/>
                </a:solidFill>
                <a:latin typeface="Times New Roman"/>
              </a:rPr>
              <a:t>’</a:t>
            </a:r>
            <a:r>
              <a:rPr b="0" lang="en-US" sz="1200" spc="-1" strike="noStrike">
                <a:solidFill>
                  <a:srgbClr val="000000"/>
                </a:solidFill>
                <a:latin typeface="Times New Roman"/>
              </a:rPr>
              <a:t>s placement at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wide disp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Z 4,643 students from 163 schools too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59BE-8760-47A2-BC56-86858DED33C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in your subject usually work with continuous or non-continuous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the gender difference?</a:t>
            </a: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D4A5-22F8-43CF-844D-F7FF703E1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in Technology required to access &amp; retrieve, integrate and interpret?</a:t>
            </a: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CF59-16F9-454D-A593-C57F338D1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information resonate with your experience of literacy in your school?</a:t>
            </a:r>
            <a:endParaRPr b="0" lang="en-US" sz="1200" spc="-1" strike="noStrike">
              <a:solidFill>
                <a:srgbClr val="000000"/>
              </a:solidFill>
              <a:latin typeface="Times New Roman"/>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BF72-0696-4AE8-90E8-8E377AF4C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C140-A9F5-4F14-9299-8A8772AD9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450720" y="4343400"/>
            <a:ext cx="602928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ng higher in the pyramid means learning more sophisticated but less generalisable  skills and routines which 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lear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usually taught as a reading strateg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BC8B-5CFE-4331-927E-3972B6214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7485-1634-441C-BE00-150BE78C2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1"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639A3-0246-42E6-8DAF-00BD5FC3C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3"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64FC7-FD4E-40DB-9703-14DF26F5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5"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06C2-4461-4440-B903-8D47B182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C76B1-4259-4DB6-B490-46604980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68309-21F2-44C7-833F-74B122C89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037E-C995-4D50-BE52-8B589E366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4"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E552-C47E-4DAD-9552-53DA269F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8"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E42A-2053-44A0-8802-8984FBD0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2"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21FEB-868D-4899-B676-362FED9D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2B84F-5CC9-4A8A-A119-8E16484E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20"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5A0E-3E01-441D-879A-FC5053C6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7" descr="logos-joint-bw-lowres.jpg"/>
          <p:cNvPicPr/>
          <p:nvPr/>
        </p:nvPicPr>
        <p:blipFill>
          <a:blip r:embed="rId3"/>
          <a:stretch/>
        </p:blipFill>
        <p:spPr>
          <a:xfrm>
            <a:off x="5638680" y="228600"/>
            <a:ext cx="287676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3" descr="FOED Logo"/>
          <p:cNvPicPr/>
          <p:nvPr/>
        </p:nvPicPr>
        <p:blipFill>
          <a:blip r:embed="rId4"/>
          <a:stretch/>
        </p:blipFill>
        <p:spPr>
          <a:xfrm>
            <a:off x="7010280" y="5943600"/>
            <a:ext cx="1859040" cy="60480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9" descr="6835_powerpoint_v2"/>
          <p:cNvPicPr/>
          <p:nvPr/>
        </p:nvPicPr>
        <p:blipFill>
          <a:blip r:embed="rId2"/>
          <a:stretch/>
        </p:blipFill>
        <p:spPr>
          <a:xfrm>
            <a:off x="0" y="0"/>
            <a:ext cx="9155160" cy="1065240"/>
          </a:xfrm>
          <a:prstGeom prst="rect">
            <a:avLst/>
          </a:prstGeom>
          <a:ln w="0">
            <a:noFill/>
          </a:ln>
        </p:spPr>
      </p:pic>
      <p:pic>
        <p:nvPicPr>
          <p:cNvPr id="84" name="Picture 7" descr="logos-joint-bw-lowres.jpg"/>
          <p:cNvPicPr/>
          <p:nvPr/>
        </p:nvPicPr>
        <p:blipFill>
          <a:blip r:embed="rId3"/>
          <a:stretch/>
        </p:blipFill>
        <p:spPr>
          <a:xfrm>
            <a:off x="5638680" y="228600"/>
            <a:ext cx="2876760" cy="727200"/>
          </a:xfrm>
          <a:prstGeom prst="rect">
            <a:avLst/>
          </a:prstGeom>
          <a:ln w="0">
            <a:noFill/>
          </a:ln>
        </p:spPr>
      </p:pic>
      <p:sp>
        <p:nvSpPr>
          <p:cNvPr id="8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86"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9472-A0B0-4911-9E55-D9DD0D7A020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2057400"/>
            <a:ext cx="7772400" cy="37339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aising Student Achievement in Technology Education by Focusing on</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teracy and Language</a:t>
            </a:r>
            <a:endParaRPr b="0" lang="en-US" sz="28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ptember 2012</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learning area has specific literacy demands involv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st and academic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text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s of thinking, evaluating and respond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of communica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ventions, styles, structur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iteracy in the Learning Area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hanahan &amp; Shanahan (2008)</a:t>
            </a:r>
            <a:endParaRPr b="1" lang="en-US" sz="3000" spc="-1" strike="noStrike">
              <a:solidFill>
                <a:srgbClr val="000000"/>
              </a:solidFill>
              <a:latin typeface="Verdana"/>
            </a:endParaRPr>
          </a:p>
        </p:txBody>
      </p:sp>
      <p:sp>
        <p:nvSpPr>
          <p:cNvPr id="169"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hree learning areas found to value in reading:</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h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reading, close reading, precise definitions, letters and symbol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hemistr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isualising, processes, symbols, abstraction</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stor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uthor/source, vocabulary difficulty level</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echnology</a:t>
            </a:r>
            <a:endParaRPr b="1" lang="en-US" sz="3000" spc="-1" strike="noStrike">
              <a:solidFill>
                <a:srgbClr val="000000"/>
              </a:solidFill>
              <a:latin typeface="Verdana"/>
            </a:endParaRPr>
          </a:p>
        </p:txBody>
      </p:sp>
      <p:sp>
        <p:nvSpPr>
          <p:cNvPr id="171"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at do Technology teachers value in writing?</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asTTle national profile</a:t>
            </a:r>
            <a:endParaRPr b="1" lang="en-US" sz="3000" spc="-1" strike="noStrike">
              <a:solidFill>
                <a:srgbClr val="000000"/>
              </a:solidFill>
              <a:latin typeface="Verdana"/>
            </a:endParaRPr>
          </a:p>
        </p:txBody>
      </p:sp>
      <p:sp>
        <p:nvSpPr>
          <p:cNvPr id="135"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6" name="Chart 3" descr=""/>
          <p:cNvPicPr/>
          <p:nvPr/>
        </p:nvPicPr>
        <p:blipFill>
          <a:blip r:embed="rId1"/>
          <a:stretch/>
        </p:blipFill>
        <p:spPr>
          <a:xfrm>
            <a:off x="990720" y="1905120"/>
            <a:ext cx="6095880" cy="4064040"/>
          </a:xfrm>
          <a:prstGeom prst="rect">
            <a:avLst/>
          </a:prstGeom>
          <a:ln w="0">
            <a:noFill/>
          </a:ln>
        </p:spPr>
      </p:pic>
      <p:graphicFrame>
        <p:nvGraphicFramePr>
          <p:cNvPr id="137" name=""/>
          <p:cNvGraphicFramePr/>
          <p:nvPr/>
        </p:nvGraphicFramePr>
        <p:xfrm>
          <a:off x="380880" y="2057400"/>
          <a:ext cx="8458200" cy="4205160"/>
        </p:xfrm>
        <a:graphic>
          <a:graphicData uri="http://schemas.openxmlformats.org/drawingml/2006/table">
            <a:tbl>
              <a:tblPr/>
              <a:tblGrid>
                <a:gridCol w="2819520"/>
                <a:gridCol w="2819520"/>
                <a:gridCol w="2819160"/>
              </a:tblGrid>
              <a:tr h="8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ginning of year</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e-asTTle reading national mean</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iteracy Learning Progressions</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0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8</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B</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owards L4 by end of Y7</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9</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P</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t L4 by end of Y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98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10</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A</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owards L5 by end of Y9</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0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11</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5P</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t L5 by end of Y10</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did PISA reading literacy test?</a:t>
            </a:r>
            <a:br>
              <a:rPr sz="2400"/>
            </a:br>
            <a:r>
              <a:rPr b="1" lang="en-US" sz="1600" spc="-1" strike="noStrike">
                <a:solidFill>
                  <a:srgbClr val="000000"/>
                </a:solidFill>
                <a:latin typeface="Verdana"/>
              </a:rPr>
              <a:t>Programme for International Student Assessment (15 yr olds)</a:t>
            </a:r>
            <a:endParaRPr b="1" lang="en-US" sz="1600" spc="-1" strike="noStrike">
              <a:solidFill>
                <a:srgbClr val="000000"/>
              </a:solidFill>
              <a:latin typeface="Verdana"/>
            </a:endParaRPr>
          </a:p>
        </p:txBody>
      </p:sp>
      <p:sp>
        <p:nvSpPr>
          <p:cNvPr id="139" name="PlaceHolder 2"/>
          <p:cNvSpPr>
            <a:spLocks noGrp="1"/>
          </p:cNvSpPr>
          <p:nvPr>
            <p:ph/>
          </p:nvPr>
        </p:nvSpPr>
        <p:spPr>
          <a:xfrm>
            <a:off x="685800" y="1904760"/>
            <a:ext cx="77724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ading tasks covered 3 dimension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ledge (the form of the reading material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tinuous texts, non-continuous texts, mixed texts and multiple tex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encies or aspects (types of reading tasks or proces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ccess and retrieve, integrate and interpret, reflect and evaluat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tuations or context (the use for which the text is construct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ersonal, educational and occupational and public and scientific</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495680" y="914040"/>
            <a:ext cx="47894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Verdana"/>
              </a:rPr>
              <a:t>Reading literacy proficiency levels PISA</a:t>
            </a:r>
            <a:endParaRPr b="1" lang="en-US" sz="1600" spc="-1" strike="noStrike">
              <a:solidFill>
                <a:srgbClr val="000000"/>
              </a:solidFill>
              <a:latin typeface="Verdana"/>
            </a:endParaRPr>
          </a:p>
        </p:txBody>
      </p:sp>
      <p:pic>
        <p:nvPicPr>
          <p:cNvPr id="141" name="Content Placeholder 3" descr="PISA 2009 - Fig 3"/>
          <p:cNvPicPr/>
          <p:nvPr/>
        </p:nvPicPr>
        <p:blipFill>
          <a:blip r:embed="rId1"/>
          <a:srcRect l="0" t="628" r="0" b="521"/>
          <a:stretch/>
        </p:blipFill>
        <p:spPr>
          <a:xfrm>
            <a:off x="0" y="163440"/>
            <a:ext cx="4446720" cy="6308640"/>
          </a:xfrm>
          <a:prstGeom prst="rect">
            <a:avLst/>
          </a:prstGeom>
          <a:ln w="0">
            <a:noFill/>
          </a:ln>
        </p:spPr>
      </p:pic>
      <p:graphicFrame>
        <p:nvGraphicFramePr>
          <p:cNvPr id="142" name=""/>
          <p:cNvGraphicFramePr/>
          <p:nvPr/>
        </p:nvGraphicFramePr>
        <p:xfrm>
          <a:off x="4572000" y="1371600"/>
          <a:ext cx="4262400" cy="639720"/>
        </p:xfrm>
        <a:graphic>
          <a:graphicData uri="http://schemas.openxmlformats.org/drawingml/2006/table">
            <a:tbl>
              <a:tblPr/>
              <a:tblGrid>
                <a:gridCol w="1420920"/>
                <a:gridCol w="1420560"/>
                <a:gridCol w="1420920"/>
              </a:tblGrid>
              <a:tr h="6404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Country/ Grou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Me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Rank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3" name=""/>
          <p:cNvGraphicFramePr/>
          <p:nvPr/>
        </p:nvGraphicFramePr>
        <p:xfrm>
          <a:off x="4611600" y="2057400"/>
          <a:ext cx="4262400" cy="457200"/>
        </p:xfrm>
        <a:graphic>
          <a:graphicData uri="http://schemas.openxmlformats.org/drawingml/2006/table">
            <a:tbl>
              <a:tblPr/>
              <a:tblGrid>
                <a:gridCol w="1420920"/>
                <a:gridCol w="1420920"/>
                <a:gridCol w="1420560"/>
              </a:tblGrid>
              <a:tr h="457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N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52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7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4" name=""/>
          <p:cNvGraphicFramePr/>
          <p:nvPr/>
        </p:nvGraphicFramePr>
        <p:xfrm>
          <a:off x="4610160" y="2514600"/>
          <a:ext cx="4262400" cy="514440"/>
        </p:xfrm>
        <a:graphic>
          <a:graphicData uri="http://schemas.openxmlformats.org/drawingml/2006/table">
            <a:tbl>
              <a:tblPr/>
              <a:tblGrid>
                <a:gridCol w="1420920"/>
                <a:gridCol w="1420560"/>
                <a:gridCol w="1420920"/>
              </a:tblGrid>
              <a:tr h="514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Pakeh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5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2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5" name=""/>
          <p:cNvGraphicFramePr/>
          <p:nvPr/>
        </p:nvGraphicFramePr>
        <p:xfrm>
          <a:off x="4648320" y="2971800"/>
          <a:ext cx="4262400" cy="380880"/>
        </p:xfrm>
        <a:graphic>
          <a:graphicData uri="http://schemas.openxmlformats.org/drawingml/2006/table">
            <a:tbl>
              <a:tblPr/>
              <a:tblGrid>
                <a:gridCol w="1420560"/>
                <a:gridCol w="1420920"/>
                <a:gridCol w="1420920"/>
              </a:tblGrid>
              <a:tr h="380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Asi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5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7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6" name=""/>
          <p:cNvGraphicFramePr/>
          <p:nvPr/>
        </p:nvGraphicFramePr>
        <p:xfrm>
          <a:off x="4648320" y="3352680"/>
          <a:ext cx="4262400" cy="447840"/>
        </p:xfrm>
        <a:graphic>
          <a:graphicData uri="http://schemas.openxmlformats.org/drawingml/2006/table">
            <a:tbl>
              <a:tblPr/>
              <a:tblGrid>
                <a:gridCol w="1420560"/>
                <a:gridCol w="1420920"/>
                <a:gridCol w="1420920"/>
              </a:tblGrid>
              <a:tr h="447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OECD a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600" spc="-1" strike="noStrike">
                          <a:solidFill>
                            <a:srgbClr val="000000"/>
                          </a:solidFill>
                          <a:latin typeface="Verdana"/>
                        </a:rPr>
                        <a:t>4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7" name=""/>
          <p:cNvGraphicFramePr/>
          <p:nvPr/>
        </p:nvGraphicFramePr>
        <p:xfrm>
          <a:off x="4572000" y="3809880"/>
          <a:ext cx="4297320" cy="1041480"/>
        </p:xfrm>
        <a:graphic>
          <a:graphicData uri="http://schemas.openxmlformats.org/drawingml/2006/table">
            <a:tbl>
              <a:tblPr/>
              <a:tblGrid>
                <a:gridCol w="1405080"/>
                <a:gridCol w="1446120"/>
                <a:gridCol w="1446120"/>
              </a:tblGrid>
              <a:tr h="1041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Māori Slovenia, Slovaki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47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34</a:t>
                      </a:r>
                      <a:r>
                        <a:rPr b="1" lang="en-NZ" sz="1800" spc="-1" strike="noStrike" baseline="30000">
                          <a:solidFill>
                            <a:srgbClr val="ffffff"/>
                          </a:solidFill>
                          <a:latin typeface="Verdana"/>
                        </a:rPr>
                        <a:t>th</a:t>
                      </a:r>
                      <a:r>
                        <a:rPr b="1" lang="en-NZ" sz="1800" spc="-1" strike="noStrike">
                          <a:solidFill>
                            <a:srgbClr val="ffffff"/>
                          </a:solidFill>
                          <a:latin typeface="Verdana"/>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8" name=""/>
          <p:cNvGraphicFramePr/>
          <p:nvPr/>
        </p:nvGraphicFramePr>
        <p:xfrm>
          <a:off x="4572000" y="4800600"/>
          <a:ext cx="4262400" cy="1614600"/>
        </p:xfrm>
        <a:graphic>
          <a:graphicData uri="http://schemas.openxmlformats.org/drawingml/2006/table">
            <a:tbl>
              <a:tblPr/>
              <a:tblGrid>
                <a:gridCol w="1420920"/>
                <a:gridCol w="1420560"/>
                <a:gridCol w="1420920"/>
              </a:tblGrid>
              <a:tr h="161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Pacific</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Below Ch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Above Mexic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4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44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Continuous vs non-continuous texts</a:t>
            </a:r>
            <a:endParaRPr b="1" lang="en-US" sz="2400" spc="-1" strike="noStrike">
              <a:solidFill>
                <a:srgbClr val="000000"/>
              </a:solidFill>
              <a:latin typeface="Verdana"/>
            </a:endParaRPr>
          </a:p>
        </p:txBody>
      </p:sp>
      <p:sp>
        <p:nvSpPr>
          <p:cNvPr id="150"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Z students performed strongly on tasks related to non-continuous texts (lists, diagrams, graphs, tables) – 532 poin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s strong on continuous texts (sentences, paragraphs) – 518 poin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untries did not have more than a 10 point difference between continuous and non-continuous text score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males out-performed males in both types but the gap was wider with continuous tex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Access and retrieve, integrate and interpret</a:t>
            </a:r>
            <a:endParaRPr b="1" lang="en-US" sz="2400" spc="-1" strike="noStrike">
              <a:solidFill>
                <a:srgbClr val="000000"/>
              </a:solidFill>
              <a:latin typeface="Verdana"/>
            </a:endParaRPr>
          </a:p>
        </p:txBody>
      </p:sp>
      <p:sp>
        <p:nvSpPr>
          <p:cNvPr id="152"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students performed strongly in this area.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countries outperformed NZ.</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had a significant gap between males and females in this area (40 point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reflect and evaluate</a:t>
            </a:r>
            <a:endParaRPr b="1" lang="en-US" sz="2400" spc="-1" strike="noStrike">
              <a:solidFill>
                <a:srgbClr val="000000"/>
              </a:solidFill>
              <a:latin typeface="Verdana"/>
            </a:endParaRPr>
          </a:p>
        </p:txBody>
      </p:sp>
      <p:sp>
        <p:nvSpPr>
          <p:cNvPr id="154"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students performed very strongly in this area.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Shanghai-China, Korea and Hong-Kong China outperformed NZ.</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had one of the widest gaps between males and females in this area (50 poi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9360" y="0"/>
            <a:ext cx="9153360" cy="6381720"/>
          </a:xfrm>
          <a:prstGeom prst="rect">
            <a:avLst/>
          </a:prstGeom>
          <a:ln w="0">
            <a:noFill/>
          </a:ln>
        </p:spPr>
      </p:pic>
      <p:sp>
        <p:nvSpPr>
          <p:cNvPr id="156" name="Text Box 3"/>
          <p:cNvSpPr/>
          <p:nvPr/>
        </p:nvSpPr>
        <p:spPr>
          <a:xfrm>
            <a:off x="762120" y="2590920"/>
            <a:ext cx="7696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4"/>
          <p:cNvSpPr/>
          <p:nvPr/>
        </p:nvSpPr>
        <p:spPr>
          <a:xfrm>
            <a:off x="971640" y="4005360"/>
            <a:ext cx="6696000" cy="1015920"/>
          </a:xfrm>
          <a:prstGeom prst="rect">
            <a:avLst/>
          </a:prstGeom>
          <a:noFill/>
          <a:ln w="0">
            <a:noFill/>
          </a:ln>
        </p:spPr>
        <p:style>
          <a:lnRef idx="0"/>
          <a:fillRef idx="0"/>
          <a:effectRef idx="0"/>
          <a:fontRef idx="minor"/>
        </p:style>
        <p:txBody>
          <a:bodyPr lIns="90000" rIns="90000" tIns="46800" bIns="46800" anchor="t">
            <a:spAutoFit/>
          </a:bodyPr>
          <a:p>
            <a:pPr marL="355680" indent="-355680" algn="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611280" y="476280"/>
            <a:ext cx="7848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9" name="Text Box 6"/>
          <p:cNvSpPr/>
          <p:nvPr/>
        </p:nvSpPr>
        <p:spPr>
          <a:xfrm>
            <a:off x="826920" y="476280"/>
            <a:ext cx="7129800" cy="579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7"/>
          <p:cNvSpPr/>
          <p:nvPr/>
        </p:nvSpPr>
        <p:spPr>
          <a:xfrm>
            <a:off x="755640" y="1197000"/>
            <a:ext cx="71294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Content Placeholder 9" descr=""/>
          <p:cNvPicPr/>
          <p:nvPr/>
        </p:nvPicPr>
        <p:blipFill>
          <a:blip r:embed="rId3"/>
          <a:stretch/>
        </p:blipFill>
        <p:spPr>
          <a:xfrm>
            <a:off x="438120" y="1109520"/>
            <a:ext cx="8267760" cy="5102280"/>
          </a:xfrm>
          <a:prstGeom prst="rect">
            <a:avLst/>
          </a:prstGeom>
          <a:ln w="0">
            <a:noFill/>
          </a:ln>
        </p:spPr>
      </p:pic>
      <p:sp>
        <p:nvSpPr>
          <p:cNvPr id="162" name="TextBox 10"/>
          <p:cNvSpPr/>
          <p:nvPr/>
        </p:nvSpPr>
        <p:spPr>
          <a:xfrm>
            <a:off x="755640" y="476280"/>
            <a:ext cx="7777080" cy="672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Literacy and language  progressio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Times New Roman"/>
              </a:rPr>
              <a:t>Shanahan and Shanahan  2008</a:t>
            </a:r>
            <a:endParaRPr b="0" lang="en-US" sz="1400" spc="-1" strike="noStrike">
              <a:solidFill>
                <a:srgbClr val="000000"/>
              </a:solidFill>
              <a:latin typeface="Times New Roman"/>
            </a:endParaRPr>
          </a:p>
        </p:txBody>
      </p:sp>
      <p:cxnSp>
        <p:nvCxnSpPr>
          <p:cNvPr id="163" name="Straight Arrow Connector 19"/>
          <p:cNvCxnSpPr/>
          <p:nvPr/>
        </p:nvCxnSpPr>
        <p:spPr>
          <a:xfrm flipH="1" flipV="1">
            <a:off x="2410560" y="1699560"/>
            <a:ext cx="72360" cy="2594520"/>
          </a:xfrm>
          <a:prstGeom prst="straightConnector1">
            <a:avLst/>
          </a:prstGeom>
          <a:ln w="25560">
            <a:solidFill>
              <a:srgbClr val="000000">
                <a:alpha val="95000"/>
              </a:srgbClr>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hanahan &amp; Shanahan (2008)</a:t>
            </a:r>
            <a:endParaRPr b="1" lang="en-US" sz="3000" spc="-1" strike="noStrike">
              <a:solidFill>
                <a:srgbClr val="000000"/>
              </a:solidFill>
              <a:latin typeface="Verdana"/>
            </a:endParaRPr>
          </a:p>
        </p:txBody>
      </p:sp>
      <p:sp>
        <p:nvSpPr>
          <p:cNvPr id="165"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early reading skills do not automatically develop into more complex skills that enable students to deal with the specialised and sophisticated reading in specific learning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sed literacy instruction needed for all students (not just those who score below the mean in literacy meas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4:34:39Z</dcterms:created>
  <dc:creator>Studio 4</dc:creator>
  <dc:description/>
  <dc:language>en-US</dc:language>
  <cp:lastModifiedBy>Siliva Gaugatao</cp:lastModifiedBy>
  <dcterms:modified xsi:type="dcterms:W3CDTF">2012-10-28T21:14:50Z</dcterms:modified>
  <cp:revision>62</cp:revision>
  <dc:subject/>
  <dc:title>PowerPoint Presentation</dc:title>
</cp:coreProperties>
</file>